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33C88-409A-4AC7-B5CB-DFC6AE40A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A8D-48C0-41D8-851E-2C6F7299C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92870B-A451-4BE8-A166-51DB04E89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8E03B1-0F76-4C36-B01B-94A8BA52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9C5A56-C9E8-407C-B25A-F40C2D02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9D625B-5888-499D-9949-EC97322A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538583-24BA-415F-AC8D-E6FBDA243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8A69F-1312-4A70-AFCF-2EB732850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8700FF-2218-4613-8027-0BE0BCF54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1AC99A-DDA7-4A11-B694-597A09942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B0BA38-352C-4055-8ECC-9B606C539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C06386-1A67-4174-91E7-2E712C454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2CA-4E3C-434D-A216-8459C8E03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82D52D-1ABB-4355-9072-F54CB180D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6E97B9-1081-4A1E-ACEE-0731E8CD2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4C9F67-ED4C-4334-A561-0C322339D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984A8-68E9-4815-BC6F-DC9B76934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540B30-B530-4190-AD8C-C5CD2BC3F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EE8CF-5A5C-401F-B2E7-E052BDDAF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C43B398-9F7F-4B3B-96FD-568A02E47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1D2245-BEC5-4E49-A4F0-501111451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68A409-95E9-4E04-9302-FC189024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320E92-616C-4398-850F-4840634F4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8D10-130B-4D0E-A296-527D02A18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5FE6E0-351E-4A01-A954-5A658A3FAE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AFC352-FE7A-4D91-95C0-BBDD264B2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10F4A1-8A14-4541-9751-7F4F286B4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C4C72-AB64-4455-8F7F-75D1B15E6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BB344E-3637-45BE-897F-D3998042D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31A88-FAA2-47F1-9D16-5444E847D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6CD96-1C46-44F7-AA75-BE47E0471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E99479-A288-454D-B40C-AAE1F2B7A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168170-42B5-49DC-B261-EB00B183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901B31-53D0-4703-AE71-BF716F84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53B47-3590-4408-9BDB-C3B4F19E9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C5646-02A3-4530-9F00-B0C1FA0C1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5AAE14-5790-4186-8D73-A1ACF7E4A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C9A740-6C2E-4556-B4D1-0A5AC633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8F34E-A3D9-4802-BB6F-233DFB938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558263-B13B-4EF7-9699-225FF6FA1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D18387-68AF-48D2-ADD5-7ED144C1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698A58-31A1-4E6A-86F8-44CD1A694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66FDE-9E5F-4186-B952-625229E8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F89E3A-AF57-45C9-A684-C2B126F46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B2E55E-6249-429F-A083-DB0747B14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0E844-53A5-465C-B2C3-4323A1622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CB7202-0CD7-41E8-B457-0A0352F3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9894FC-4A6E-4C72-89FA-19EBA485B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0FEFE-6F9F-4A74-9235-A2B5B436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FB9FC4-8232-42BF-8AA2-29B4AB543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7C15CE-A738-4DDE-B13F-12A150191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FCAAF6-C1E5-4518-9543-33083CEFB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E6DC33-1EFE-40C7-8997-FF7FF04BF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34F552-2F81-446D-8297-4F4DD58EB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AB779C-5500-4155-81E4-A94992AE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1923320-53BF-47AF-B6E2-2BF2C55B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1029-FC24-4C99-BF0C-310199140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CB74DA-25EA-400E-A2E9-464130262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97C668-D8AD-4EFE-99E1-FE491CEB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59C2F3-7366-40B2-9BE0-F44F1DB10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C4D8B5-3B46-4AD5-9C40-0C3318F2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9C692-30A9-4080-9D71-577FFA09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09048D-E165-4701-A7DF-30BED9FDA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96B877-F251-49DA-A8C3-A3B4D96E95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DB748C-57DD-404A-8EA8-A1E04115E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7CEA49-30E1-4BB4-A644-458E1384D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3D8E1B-EEE9-498E-BFD0-44035DAB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F4887-D3DF-483C-AF50-0331A14E2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4F7D3-6896-4C80-9148-462A49BCC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5C499B-20D0-4C0C-B386-8DFF9DF68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A8E797-2C63-4D02-85EB-9C422064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2061D90-8E60-4E10-A156-455F92E8E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613771F-4CD5-4709-887B-3A6D8A2F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F24B1-BA87-435C-8011-370E22D2F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08AEF1-9305-407A-8E95-89BA32563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C3FE5C-CDB9-4380-82A1-609AF1BE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10F633-CC45-4739-ACB6-9B667F6E2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44620E-8050-49D9-A0BB-819497368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C79D3-FFA5-4220-8253-07C9C9728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083850-ABC7-437A-AD3F-B4C47774B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458E32-8253-4B85-BCCD-FA168236C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832925-6C61-4C9C-920D-CE9C51C52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D79790C-A78B-4943-8DF3-DB8125049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952AF5-27FF-468B-BC02-52BEE1CF1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648FBA-386D-4CFB-8231-F758AD300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BD4D49-8922-4F99-B416-47864AD84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F6B84C3-7452-4BE2-9D2B-F8FA01D84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C4A065-D593-4F25-9AAE-22A8192B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AA7F2D-27FD-477D-B199-17AB7BF23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B07E2-7154-412A-827D-CA9674B7A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CAE2AE-D9B0-4EF3-B6FE-0087C8555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CA4B45-0C36-4767-91FE-420371BF5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16A38C-0049-4A57-B0C5-21B817B1E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90AEDD-09A7-4876-A272-4DFB079AD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EFD11D-00F1-45D7-803B-CD7EE552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263302-DBC5-471E-AAF3-A87F3C4D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34858A-EE92-4539-87DE-5E035A7F7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88761E-1507-4BAF-A00E-5D29B384C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B9FC2-CF5B-4F6C-AAD1-4279CC90A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D8DC04-7F29-4AE1-8A4E-E59D998B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205F7-56A0-4A5D-80AB-09042A8CF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744E47-C746-4021-893B-467FA4E27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1431BA-E6CE-4831-A322-7C2B5F19B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B7C735-21F0-4197-BAF9-E4F7C0520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F13086C-3D8B-48F5-9928-1BCC9BD54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144A3F-0B54-468C-99FD-F439D362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D1BFD24-1F6B-4DA1-9ACA-67DEEC59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5A69D2-09FB-4FC9-86D4-93A135F4F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E377626-7B66-4A9D-8E67-6980DD6EE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9461A5-B061-4261-B4EB-61EEB4D2C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83D3E8F-ECB5-41C6-B56D-69ECD85A6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C7B3B-159F-453D-85EE-02A26951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93563-CAA2-4C53-B08D-2AFA8BB32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BAF478-7E3E-483F-8CC3-6A95D5629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4935F8-BB52-4913-A9DF-F6D1515F3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BAD2DE8-301A-40FB-B383-A1B0C5E6F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06ECFB-3F9A-4FD0-B849-03BA0C1B0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469ECF-05CE-44B2-8AB3-79CA8CE24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45CEC0-C17F-4BBD-9E61-0D9F056CC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AF8B029-0606-4121-B611-BF4C69D5B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ABE477-93E1-4DCA-99D5-6E73A1BC4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86ABD1A-606D-477F-BED5-159A9A76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D66120A-8148-409D-8368-0685B8AD2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7E74C-A153-479F-967D-FB8DEBC1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F568A-A2C0-405F-B975-7113B10B8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1947D0A-BDF2-4F92-A128-338184CE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5EF18E-1A29-4AE5-B958-AEAE58B11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ED1CBA-0E80-4CD2-BFF9-45E5BC556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5C246D-76E0-4DB8-92EA-ECA2C714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B1E003-7029-41D2-874E-5BAF65BFE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183BCF-51EA-4F07-8FD2-998BD6DD8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B1970F0-F55D-4EFC-B0E3-0D3621F0B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609ACA-1866-457A-AE3A-E871D11E3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4099B47-4D88-44B1-95C3-4B5BE89B6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64B7F-6E7C-4345-BA87-D0F85D796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441D9D-879E-46E6-96E2-97CA423BB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AB2294-0AC8-47C1-A9C0-A2C010287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1944A1-7B7C-4661-976C-868CE14A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6E5B17C-B71A-41C8-B749-E7D5E59BB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D9B3973-E6C9-4619-B6C3-712772EDA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6144607-7372-4833-B7F1-018BEBEB9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1A2B5E-D99B-404E-895E-932B5FA1E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E01497-5A13-497C-813E-5EECCD81A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920F849-C998-4CEA-8206-EE34DC0AB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71ABDA-A9E1-4357-97D1-836E00A9AE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47716-DEFD-4F70-8F0C-341DE58F9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B0ED49-D530-416E-ADFE-B0DC121C7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8F4CE5-994F-43A4-98A6-FD8A8AD0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B7B7F82-DE61-4B09-BA2C-2F84B3B37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520B37-8E2C-4AC6-8B16-0B770BC3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F06DB0-7ED3-4357-B34C-8A6EA989E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426847-C4CA-414C-9EE7-7F672B98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6165F1-36AF-458C-B4C3-41DE58D6A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7CB059-C730-4227-AD5B-47A852F76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A5C4AF-3DE4-4BA2-BB2F-CC90E1190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D874DB0-DB78-4117-9393-CEE99013A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F4ED0-A528-431F-AED6-17DCE7E7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AEA733-3A26-4FB5-B524-23B7A9E51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246828-6CBC-411F-8A4E-9F510D0A7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4C0E21-3851-4EFE-9607-D043BB601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ECF884-9775-4928-9997-7DF8CA8F7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F1EFA16-2831-4F7D-BB07-8D7DB4E8B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D2FC355-0D3C-4339-8BF5-39A0BC7D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7C00AA-5B98-467B-84ED-903290CA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DFB8B7-7807-49EC-ACB5-B537D72F5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183E10-7953-4285-8F85-407A25CEA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103DFB2-89CA-441E-A491-6D86A06B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9CC19-5C0D-41B2-B9DC-379E2E111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13DE19-DA33-49BA-A5A2-464DEA830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655F7D2-BADA-4A90-A35A-EF1B132B3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515116-85FB-456E-87A2-E86A47884B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A8CB0-BFB4-4729-BE9E-813D15643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E116B-0948-4AB6-9194-FE64019DD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7618A6-3155-465B-A63A-CDE9C4B9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DC4EB-4DBC-4CA5-B3DF-4F5D51CFC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00A2-7D41-42DA-9D18-779032F14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B14AAB-78CF-4DE4-8854-659B21E05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6A286A-0B16-4D25-B26C-9C7C6948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859C9-EEBC-4C90-AA92-18AC72DC8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35C2-A23E-476D-A94B-40F0F393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E852D2-3FBA-4D77-A108-9EF4BDA52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532B6C-ABA6-4A7F-B4AE-901DDA13A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FE6F3-493B-412D-BE3F-FA61AE4B5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44BA5A-6E94-447B-8ABC-6D9AA68D5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979B6F-7146-466B-8E0B-44D820730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74E6C1-CA82-4272-9971-2B4EF486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3CA0-DF71-41B5-A577-C88A2BC6F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676D82-54EC-4692-A4F2-40E945F6E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F40F6-1B5B-4E21-BA71-2B0A78DAC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33598-CD26-442F-A132-446649EEE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3CF3A1-0163-43F7-92A7-EE8043679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1EB53-C4D9-49F9-BF74-67005028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8F358D-007B-4FDA-B4B0-D9895BE8D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8073AD-A53C-43E6-A23A-CFC6B4AD8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57B1FA-0482-46D4-9F46-325A7C01A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9204B9-CAA1-4DC3-90DF-49A77A2A2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70C9EF-B802-4557-ABD0-D7967BDC6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C323-13F9-4FCD-A013-9DA1C370A4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75A8B0-C542-418C-9C52-15BA96D1E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1577D-39E9-448B-B85B-75486DC0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8EC32-D79C-4CBC-A98A-B294DD8AB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80C5B-C701-4D2F-B55F-709D4CE12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DCE430-CC4A-44A3-9AA4-236CC161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A5FCE9-6A02-46D4-B64B-77861F530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36BC3-7EAF-42F3-AF09-5560090F0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76B63-E4F1-4F54-81DB-4AEC29D1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10327A-F180-4436-836A-BFF7C7920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43EEBF-E896-4AD2-92D9-0413B444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B4D27-F4CD-4802-B95C-F03DB2737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24312E-7F2B-40CC-B4D3-A860D1027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505A74-7A4E-4740-9F0F-78E472E8E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E4DF52-A5D3-42EB-9435-AA1AE0685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DC430C-EB49-400A-B0C9-06A72E2C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C8D9CD-6813-493E-B8C7-64DE34852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50ED93-A733-4AB8-A422-2A04E8318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A8200A-2DA1-4B42-9D1F-1D1E687E1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0D41C-EDD2-4E33-9736-B43B33A0E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41A12-8989-4D5B-AA02-A84B2260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81C26-B545-401A-9DAE-9DB6E727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F46D-6844-41DD-A811-26A867F9C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E7678-00BA-4FA2-9CD8-9B3CB77BB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1FE0A2-D784-409E-91DC-BA1CADE04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4A2D1-C88A-47FF-8824-AA3BE135B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7F3BE8-F570-4449-BEA0-49B2C39E5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368AC-C523-4289-9B5A-28A710F73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B561B7-D077-4611-8D64-BB888118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9DF838-D001-4DE0-BF0A-8E4C42D23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7DC9B4-4B56-40F6-AD12-28AEEC2B5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828787-E47F-4BC9-94CA-6504D0597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ADF28-0D8B-47A9-92E9-6CB2D2FC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5DC-3FF9-4188-9F0A-E4968AEDC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866BD-2C3B-429C-BC31-256949BC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013F35-A326-4AC8-9218-42D68975F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8959BD-C220-4CD5-9147-F4C6B4A60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5F2384-85D8-4861-9771-64335E807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571915-9DEA-4C85-8826-2DD7413FD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3E1BB-B27D-435E-89F5-7890779DB8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8285C1-8622-40F1-AC17-70E76BDB6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6D74D3-6BEB-4FB4-BE34-564984441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EAD264-C4E7-4D13-9746-9D78B4D24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553CBA-0660-494D-A341-E7CAB8295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079B-9C0D-479F-8457-70D67E22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9161E1-4720-445D-AF5F-4FF7719557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BF5F87-46CA-4FC4-AB5B-6FEC513D1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7224F8-8FC2-4D66-8000-5BE1BAD5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0F44A-8D42-40D1-9FF0-04D9BD86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9A16BC-9AB1-469C-B070-31E352CA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0761F9-2BF0-4A8E-9346-89B6D60D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B5A059-0FB2-4FC8-A70E-E61A21ECB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9F21A-AD2E-4671-AF9A-56DD4336C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F6D673-4E50-43E9-B356-92C391BC7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AA9236-4379-4E05-9EF1-C7B5F11A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45411-2094-4277-8336-554CB023AD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CA25-A654-4BB4-8307-9A89AD26243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D081C-305B-4C90-89DE-08C3EE5DB9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EFCA2-3E95-4C70-9B48-3BE21E8670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EBECF-6268-4F4C-A9D8-9245093A04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24914-C067-4984-9CB4-310C3D01FD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3365-E344-4A40-938F-8B0DE86EAE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75882-4B5E-49F8-82EF-27DDDA97A8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3C4B5-5001-41E0-9B1E-A533A4D027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4A258-56D3-4602-B178-D86C7F9AD3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09211-3FF8-4828-A415-504B5ED669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B6E39-406A-400D-A425-43675E28EC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0A32-BE88-4902-B3C3-BC84C9CE1C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3E738-8B2E-4095-BC0C-FBF16A8F44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08C9-A8F3-4A0B-AFB3-72069BDF78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E054-7DB7-4D09-915D-D8F2D3BA52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DF89A-D7FC-449D-BC17-8E6692DAED6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A79C0-56C8-44BE-BC9C-4968B37C5E7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227CD-68E6-4E73-978B-C6D2EEC6EB6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3F868-0133-47E0-B1C5-43AE58D00B7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D8EE9-01F0-4F3A-9E9F-441616200A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BC48-4E89-4D10-9111-A172CCDF00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F3106-21CA-42B3-9242-98C7F5D7F1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15A4-3A4B-447E-8CF1-ABD7B910B5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D3BF9-45E1-4574-943E-10C60FB82AD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5DDF8-2114-49DF-90F5-3FDAD92B1E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DEF3-F52F-4A10-8A5F-295FE69B08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CABBB-EB01-412F-82C6-F4CB5001D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E7BFA-CECA-44F1-8D32-3BC4C8D592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9773B-2431-483D-AB16-F7DA2234E3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878D2-D454-4B82-B078-F4725F3659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09D60-60A1-4F20-AC4C-1B5C4FC4BB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E86EF-712B-4937-81DD-BCC16EB993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5900-84E9-4DF5-822F-7923811CA6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64325-62AF-4C5C-805E-E635CF4E784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8DA12-F563-4405-AD9F-7A5A1E2D596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8678-DB2D-46FA-A524-22AD69E97D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F50B8-752F-4354-8758-FB2DE5601F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F3A66-F8B4-4BD0-B16B-570F1BF2ED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BD827-F990-470A-951B-2049CE16F0B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2900520" y="3114720"/>
            <a:ext cx="3342960" cy="6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6" name="Picture 2" descr=""/>
          <p:cNvPicPr/>
          <p:nvPr/>
        </p:nvPicPr>
        <p:blipFill>
          <a:blip r:embed="rId1"/>
          <a:stretch/>
        </p:blipFill>
        <p:spPr>
          <a:xfrm>
            <a:off x="500040" y="762120"/>
            <a:ext cx="8286840" cy="6095880"/>
          </a:xfrm>
          <a:prstGeom prst="rect">
            <a:avLst/>
          </a:prstGeom>
          <a:ln w="0">
            <a:noFill/>
          </a:ln>
        </p:spPr>
      </p:pic>
      <p:sp>
        <p:nvSpPr>
          <p:cNvPr id="1057" name="矩形 2"/>
          <p:cNvSpPr/>
          <p:nvPr/>
        </p:nvSpPr>
        <p:spPr>
          <a:xfrm>
            <a:off x="642960" y="1285920"/>
            <a:ext cx="31431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3"/>
          <p:cNvSpPr/>
          <p:nvPr/>
        </p:nvSpPr>
        <p:spPr>
          <a:xfrm>
            <a:off x="571680" y="1714680"/>
            <a:ext cx="8143560" cy="331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4"/>
          <p:cNvSpPr/>
          <p:nvPr/>
        </p:nvSpPr>
        <p:spPr>
          <a:xfrm>
            <a:off x="479520" y="2128680"/>
            <a:ext cx="826452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5"/>
          <p:cNvSpPr/>
          <p:nvPr/>
        </p:nvSpPr>
        <p:spPr>
          <a:xfrm>
            <a:off x="571680" y="2546280"/>
            <a:ext cx="82357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6"/>
          <p:cNvSpPr/>
          <p:nvPr/>
        </p:nvSpPr>
        <p:spPr>
          <a:xfrm>
            <a:off x="549360" y="2954160"/>
            <a:ext cx="82627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7"/>
          <p:cNvSpPr/>
          <p:nvPr/>
        </p:nvSpPr>
        <p:spPr>
          <a:xfrm>
            <a:off x="606600" y="3414600"/>
            <a:ext cx="826272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8"/>
          <p:cNvSpPr/>
          <p:nvPr/>
        </p:nvSpPr>
        <p:spPr>
          <a:xfrm>
            <a:off x="417600" y="3822840"/>
            <a:ext cx="826272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9"/>
          <p:cNvSpPr/>
          <p:nvPr/>
        </p:nvSpPr>
        <p:spPr>
          <a:xfrm>
            <a:off x="628560" y="4260960"/>
            <a:ext cx="826452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10"/>
          <p:cNvSpPr/>
          <p:nvPr/>
        </p:nvSpPr>
        <p:spPr>
          <a:xfrm>
            <a:off x="536400" y="4703760"/>
            <a:ext cx="826488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矩形 11"/>
          <p:cNvSpPr/>
          <p:nvPr/>
        </p:nvSpPr>
        <p:spPr>
          <a:xfrm>
            <a:off x="631800" y="5121360"/>
            <a:ext cx="826308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矩形 12"/>
          <p:cNvSpPr/>
          <p:nvPr/>
        </p:nvSpPr>
        <p:spPr>
          <a:xfrm>
            <a:off x="500040" y="5551560"/>
            <a:ext cx="826452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矩形 13"/>
          <p:cNvSpPr/>
          <p:nvPr/>
        </p:nvSpPr>
        <p:spPr>
          <a:xfrm>
            <a:off x="665280" y="5989680"/>
            <a:ext cx="192852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矩形 14"/>
          <p:cNvSpPr/>
          <p:nvPr/>
        </p:nvSpPr>
        <p:spPr>
          <a:xfrm>
            <a:off x="665280" y="6392880"/>
            <a:ext cx="192852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7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2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7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2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2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66560" y="700200"/>
            <a:ext cx="8210880" cy="545760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214280" y="2571840"/>
            <a:ext cx="7146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3214800" y="2571840"/>
            <a:ext cx="10713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1571760" y="3357720"/>
            <a:ext cx="78552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5"/>
          <p:cNvSpPr/>
          <p:nvPr/>
        </p:nvSpPr>
        <p:spPr>
          <a:xfrm>
            <a:off x="3286080" y="3357720"/>
            <a:ext cx="150012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6"/>
          <p:cNvSpPr/>
          <p:nvPr/>
        </p:nvSpPr>
        <p:spPr>
          <a:xfrm>
            <a:off x="5357880" y="3357720"/>
            <a:ext cx="71424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7"/>
          <p:cNvSpPr/>
          <p:nvPr/>
        </p:nvSpPr>
        <p:spPr>
          <a:xfrm>
            <a:off x="6858000" y="3357720"/>
            <a:ext cx="1357200" cy="3459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8"/>
          <p:cNvSpPr/>
          <p:nvPr/>
        </p:nvSpPr>
        <p:spPr>
          <a:xfrm>
            <a:off x="1214280" y="3786120"/>
            <a:ext cx="8575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9"/>
          <p:cNvSpPr/>
          <p:nvPr/>
        </p:nvSpPr>
        <p:spPr>
          <a:xfrm>
            <a:off x="1536840" y="5003640"/>
            <a:ext cx="9284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10"/>
          <p:cNvSpPr/>
          <p:nvPr/>
        </p:nvSpPr>
        <p:spPr>
          <a:xfrm>
            <a:off x="3143160" y="5000760"/>
            <a:ext cx="85752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11"/>
          <p:cNvSpPr/>
          <p:nvPr/>
        </p:nvSpPr>
        <p:spPr>
          <a:xfrm>
            <a:off x="4214880" y="5000760"/>
            <a:ext cx="8571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12"/>
          <p:cNvSpPr/>
          <p:nvPr/>
        </p:nvSpPr>
        <p:spPr>
          <a:xfrm>
            <a:off x="5715000" y="5000760"/>
            <a:ext cx="8571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13"/>
          <p:cNvSpPr/>
          <p:nvPr/>
        </p:nvSpPr>
        <p:spPr>
          <a:xfrm>
            <a:off x="1071720" y="5429160"/>
            <a:ext cx="1643040" cy="343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14"/>
          <p:cNvSpPr/>
          <p:nvPr/>
        </p:nvSpPr>
        <p:spPr>
          <a:xfrm>
            <a:off x="3071880" y="5429160"/>
            <a:ext cx="857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428760" y="1542960"/>
            <a:ext cx="8286480" cy="377208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1093680" y="2475000"/>
            <a:ext cx="7643880" cy="303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3"/>
          <p:cNvSpPr/>
          <p:nvPr/>
        </p:nvSpPr>
        <p:spPr>
          <a:xfrm>
            <a:off x="928800" y="2892600"/>
            <a:ext cx="17859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1143000" y="3714840"/>
            <a:ext cx="750096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963720" y="4094280"/>
            <a:ext cx="2571480" cy="309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"/>
          <p:cNvSpPr/>
          <p:nvPr/>
        </p:nvSpPr>
        <p:spPr>
          <a:xfrm>
            <a:off x="1071720" y="4929120"/>
            <a:ext cx="407196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2" descr=""/>
          <p:cNvPicPr/>
          <p:nvPr/>
        </p:nvPicPr>
        <p:blipFill>
          <a:blip r:embed="rId1"/>
          <a:stretch/>
        </p:blipFill>
        <p:spPr>
          <a:xfrm>
            <a:off x="495360" y="1890720"/>
            <a:ext cx="8153280" cy="307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58040" cy="614376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4879800" y="1606680"/>
            <a:ext cx="335772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5832360" y="2035080"/>
            <a:ext cx="27860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4"/>
          <p:cNvSpPr/>
          <p:nvPr/>
        </p:nvSpPr>
        <p:spPr>
          <a:xfrm>
            <a:off x="1177920" y="3260880"/>
            <a:ext cx="360828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"/>
          <p:cNvSpPr/>
          <p:nvPr/>
        </p:nvSpPr>
        <p:spPr>
          <a:xfrm>
            <a:off x="2857680" y="3643200"/>
            <a:ext cx="20714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6"/>
          <p:cNvSpPr/>
          <p:nvPr/>
        </p:nvSpPr>
        <p:spPr>
          <a:xfrm>
            <a:off x="2428920" y="4071960"/>
            <a:ext cx="4357800" cy="307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7"/>
          <p:cNvSpPr/>
          <p:nvPr/>
        </p:nvSpPr>
        <p:spPr>
          <a:xfrm>
            <a:off x="2535120" y="4464000"/>
            <a:ext cx="2714760" cy="336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8"/>
          <p:cNvSpPr/>
          <p:nvPr/>
        </p:nvSpPr>
        <p:spPr>
          <a:xfrm>
            <a:off x="1285920" y="5286240"/>
            <a:ext cx="4857840" cy="308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2" name="Picture 2" descr=""/>
          <p:cNvPicPr/>
          <p:nvPr/>
        </p:nvPicPr>
        <p:blipFill>
          <a:blip r:embed="rId1"/>
          <a:stretch/>
        </p:blipFill>
        <p:spPr>
          <a:xfrm>
            <a:off x="485640" y="1386000"/>
            <a:ext cx="8172720" cy="40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3" name="Picture 2" descr=""/>
          <p:cNvPicPr/>
          <p:nvPr/>
        </p:nvPicPr>
        <p:blipFill>
          <a:blip r:embed="rId1"/>
          <a:stretch/>
        </p:blipFill>
        <p:spPr>
          <a:xfrm>
            <a:off x="538200" y="1138320"/>
            <a:ext cx="8067600" cy="458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2" descr=""/>
          <p:cNvPicPr/>
          <p:nvPr/>
        </p:nvPicPr>
        <p:blipFill>
          <a:blip r:embed="rId1"/>
          <a:stretch/>
        </p:blipFill>
        <p:spPr>
          <a:xfrm>
            <a:off x="457200" y="1695600"/>
            <a:ext cx="8229600" cy="34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476280" y="1690560"/>
            <a:ext cx="819144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9:5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